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43C8C-04D4-450A-983B-1E3D7998B0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69281-A23A-42FF-A96A-E7953A00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E6DA-0504-4934-9FE4-5EED6352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67994-0255-4441-B34E-898166CF86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07D4A-D5A0-4FC2-B49C-F69D04A5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3A6C-E6AE-4135-A9C2-88E47853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4D02-9FB7-45FE-ABCD-C1B2625D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BBCC-2B15-4B72-A083-E7711963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7CDCF-5EBE-4B3C-8E39-7B3D3672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8C8A3-8565-4ABF-95FC-377EE594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10AA6-03E1-4C0A-A54F-8F5063C0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31B4-5F48-4C64-97D4-36DF4A8F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BE9D-41AA-4FB0-AF25-DE5F1A31DCF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与管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的设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护理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医院感染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重症监护病房基本设备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耐药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呼吸机相关性肺炎、中心静脉导管相关性血流感染、导尿管相关性尿路感染、多重耐药细菌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CD2D-B7A7-4DA1-9C67-898580761C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设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内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预防和控制措施减少危重患者的呼吸机相关性肺炎、导管相关血流感染、导尿管相关性尿路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多重耐药细菌感染的预防和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7FC6-2580-4894-864B-E9625A72E1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01F1-5EE8-4DC2-BB96-DCB2F19893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重症监护病房的设置原则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重症监护病房的分区环境和布局设置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重症监护病房基本设备要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安全和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医院感染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房感染控制基本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控感人员进行重症监护感染管理目标监测的培训，确定感染源和危险因素，及时发现感染的暴发和聚集，给予及时的控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动态监测入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ICU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患者呼吸道、泌尿道、血液及伤口的致病微生物及药物敏感的监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定护理规章和流程，培训医务人员，并且监督其正确执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正确处理环境和设备，如空气净化处理，呼吸机及管路的清洗、消毒和使用，床旁血滤机器操作，纤维支气管镜的清洗、消毒和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合理应用抗生素，达到减少院内耐药细菌的产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职工进行保健和教育，保证医务人员的安全和健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工作人员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访客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废物与排泄物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医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机相关性肺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ventilator associated pneumoni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VAP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血管内导管相关性血流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entral line associated  blood stream infectio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LABS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导尿管相关性尿路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theter associated urinary tract inf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UT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重耐药细菌感染的预防和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8-28T05:42:11Z</dcterms:modified>
  <cp:revision>5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